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jpeg" ContentType="image/jpeg"/>
  <Override PartName="/ppt/media/image6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C252-FDA9-43DE-9D66-AFD0D305C0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CBCCE-BEA0-4053-9E33-8414B3CB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D35E42-E1BC-456E-96D1-0D740550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320816-6DAE-425D-8F3E-07C2B8AF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630E5-B546-43BC-AA52-5E5E5360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0AE5B1-232D-409D-A7A4-83888288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22DA63-6DAC-476E-BD30-0BD0EE5D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E4FCE-E8D8-459A-B15D-37F71055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0DF3F-43D5-4674-AF17-825865AE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0F3861-07A2-4CA3-9028-8D4A7009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09ADF-DD81-48AD-94C6-D8BF7BD0B1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869A-80DA-4B86-A8C6-FE9DB2C433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0DA2-F036-4103-B9F5-59A46F54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7333-329A-4E3A-9DDD-81FEAD0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8F51D-60EE-499E-B0BF-29BEB60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74AA-3217-4645-A068-08961FDD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5532D-465D-4FB7-854F-F3F52EE3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3E8D-32DD-4F3B-B0D3-FFDAC2B0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597A5-F2D1-47B7-AC2A-F8914E8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1AFFD-8F74-403B-A17C-77ED8FE6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FB954-591E-48D4-AB03-70EA3678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BC8E-ABDA-43C2-A633-F020F9C8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7F8EA-5015-42EF-930D-6D309C6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1809-8DFD-45DD-A364-6DEF9760F9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5904-6F06-4CBB-A18B-EB9FA4BA74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5BC223-72CE-4F97-8C1F-2A1DD446EB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5FD28E-855E-4CBE-A1E3-F4D21A6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85C5B7-E0EE-4316-BF1D-6AD1288E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EFB4CC-957F-4AB6-8963-DAD91500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B1DD62-CB80-4CEB-BC58-724ACB53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D7DC7D-D8C2-4C20-8C13-C8FD6D80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3F660-6E7A-4584-A4B5-2A0EE0D9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1B233D-0774-4F0B-88FE-BE94D6A6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D18405-10BB-4FDB-A0BB-96104D76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743C8-F091-4784-B868-31BDD93D6E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3DC3DE-D4DE-4688-B292-AD46857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B8399-2328-4F77-8DBC-75501C14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2AF06-7CD1-46B5-854D-C69CF0F44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1C883-B83B-499B-B3C1-C9C9CD1990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827FD1-D262-4D7A-80D8-00BC1ED5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8334B-FA2C-4DC0-9097-52926BC6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E327B-5CC5-4526-B4F3-20B1B04A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886B2-9F1D-4CE2-8D9A-D9958553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F4019-6334-4C17-A6A2-25B82793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7C106-DA27-4FEE-8EF6-DE8ECCDB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ADA63-B820-4603-85AF-6FC52CC5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94B09-198A-423A-B05A-6617826B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65D5F-2A89-4422-AA55-7462AE7D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653875-324D-409B-87DB-178A656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56CDD-7E29-4877-A3DF-B8A99E96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10B9A-7CA8-4E29-833F-EB41BB2B9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7FD5-0595-43B0-8341-1EB045B592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B73DFD-0313-487C-B438-78F2ADB3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DDB9C-23A4-4BA4-8C52-7D57754B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CB74F-7259-4D9D-AF79-BC92C812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8810C-7671-4F94-A8EB-2F12B25AC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68FDE-88AD-4A7B-8576-8C286AC2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C962F-D973-4B32-96E3-208318B8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468A3-CCF9-4DBB-8453-CCF97035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8C11-93E3-468A-84BE-821D700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B79E1-96BF-477D-9CE0-E902A52D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745C9-7452-4EC8-863B-DC3572EC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A1B02-8C95-42F1-BCD4-A0B0FF44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29BA4-B1A6-4D4F-926C-73A586BB48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BC4DB2-AB85-41E8-9D32-E4DED9AAB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2C4812-00F5-4FEB-9422-6B51ABE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16320C-0745-485E-AB67-C424CAB3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6F4EB-B1CD-4A93-9EA1-57CD8FE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A1A57B-748E-4986-8AFB-7CC2F1E8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B02D77-3F10-47FF-A82B-37226401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61A42D-A445-4F5E-8BA9-D6937138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09EFD0-080C-4800-9BA1-DEF5653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3753DD-BCA6-474F-BCC1-164245E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937A54-D1A8-4AEB-A218-8F90C0E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E675A0-A7C9-486C-A35D-2F5CE839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FB023F-A1B2-48C0-95D7-42E349BE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5A275-7639-440A-B0DF-0968FB49B8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8C6E59-0411-49BE-A0BD-0752A7631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BD11D-D143-4A82-B3C3-3DF880D4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1EB4F1-5D88-486D-954F-4524EF6A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DCEC7F-E300-4090-91A8-A3826FAB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830C88-2937-4658-A254-73F26802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FF700-58F8-4871-9DD8-C91137FC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10DBB0-8EF6-405A-A64D-6AA91C77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AC3EEB-656A-4EC6-80EB-48FFF8A2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40301B2-D0FF-4FCA-84CB-FADF3DDF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AC7FD3-B518-445C-8EAA-328CE967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07833F-1A4B-4431-8BED-36B67983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1DB42E-69BE-469E-9483-BB87F00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556EB-21EC-4142-8823-49F02527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B208F9-F294-4E8F-8F0A-1EA682E680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50296-3733-42A9-9000-0F2AB86A8D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CFB4B-1395-4368-AE31-7D02EF97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49C9-0313-4A7C-961F-9E57E864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6D33D-BA9A-40A2-967E-25625EA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87D9D-2C19-4402-8905-F6E4A9205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998B-74B3-4653-86D1-6F4141BC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7833F-6BAD-4396-8EE5-70C21A2E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B7820-C7A5-43E8-BBDC-A688F9ED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E00D-7539-452C-9AEF-7372F94C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D82B-CD33-4B64-8309-5F432411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62356-C024-4F76-8035-AFF84630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FC8B3-5C3F-4050-98D5-8AA9D22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AB6257-B552-431E-BE2E-D57E0CF3D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42FA36-E80D-41A6-9AA6-45273A0D5A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977AC4-718D-407C-8B8A-2514F6A5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CF54D3-5051-4ABE-94E8-7C11680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D84044-259B-42E6-A6DB-8E8E8C95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378C22-45A0-4BD4-AC8C-1919877B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4EAFDC3-8A9A-4667-B49C-FC23BA6A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661593-AB1B-4E8C-87DE-7C331BFC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59AB-D2C4-481A-8E28-06A94884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9F248-1BFA-45A2-B9C3-11D6A047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DC991C-2D43-4AEF-BBE3-38DC78A1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1F6F77-ED1D-4827-BEC5-9E7FAB5D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7EBCB02-6E3C-41E6-BFF6-8FC4E390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8486B6-00FD-40C6-BD36-42C0E5BD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FEC188-F507-4355-9F58-AEAACF2306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C4A934-C6F3-4696-9BE8-965086460E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0598BC-8C60-4E43-B7A2-3A0CDDB8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C95298-E452-47A6-A4CB-8C588E59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2452FC-D325-4BD8-A038-16C18474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1348C84-F817-4273-A1BD-F381ADEC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70925-9D17-43A6-B849-13ADA11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034737-62AC-42A4-AA38-95B5D82E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F22BEF-427D-4FC8-845C-9364F42D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710C6E-620F-47F8-A7D2-CA5F5C24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B8455B-1EBF-4A62-BBAE-86BDA2A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1CA149-0FD0-4ECE-B5AE-D94DAE61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68A1FA-8398-4C37-B677-3FC5159E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37A0B9-94FC-48AF-93A0-70192E938B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B7481-716F-4600-9055-C8412FC1C2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46E26-C86A-4271-AB79-B7724B6A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AC2289-E156-496F-B462-30F69D05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D30DA-855D-4081-8729-19415F0B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2DF29B-7E0A-4029-9FA0-67CF588A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FA3FE-58D8-45DE-887A-E9A0C67D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61688-BDA9-4719-958F-582B180D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83E05-FA49-400D-89AA-DC3D6A7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05EE1-65DB-4A33-913E-9F762227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3734C-4D65-46E6-8FFA-3B1955B7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997C9-1097-4DDE-A29C-DAA6D882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863F4F-7E11-47C1-8A35-D246E8A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9FA65-5188-4700-B3C9-49BB2FB6B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6F9996-52FF-44AE-81F8-81F43BEA07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8AB25-144E-402E-BF09-0B24485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1167A0-D823-40F9-AD86-AAEDE94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5009CB-E2CE-4BBA-A9B8-79BE5AE1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87E851E-A43E-4449-86B1-BEAD0E77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D1CAC6-BE24-444A-89B9-50E1990B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D9AF42-DE8B-47FE-A715-B8A1FABC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F36A52-7066-45E1-B0B4-AEB407AD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04F073-57AA-47BB-8523-F23E1A6B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A485E9-19C9-4120-9DB6-BBDE3785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1A3EDEE-A441-4858-B01F-B9989C7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4D4493-93C5-4D03-9106-9A9E1B2A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382DD-CAB8-45F1-B250-41DBA7D3C9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20BD8C-035B-4A7C-92A5-E1810D05CE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B0C325-9D64-4331-B0D1-A16E6C0276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47FF6CD-DFAB-48AC-BB56-1920454F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1F167E-E77E-4871-837F-6F437327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704824-C05F-4391-A577-5A73C5E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83DE67A-BE43-41B6-93C8-628F57A5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5A8600-F95B-4CE6-B3EF-5322D31E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91C880-3CA0-4003-87FB-4236090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EBB5CD-645B-4344-93D5-45A25434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B4683F3-8709-44E2-B692-44133528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F2A32-A19D-4008-B3A7-B05B718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5E9377-9B48-467B-AC82-3C92F12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A6662D-1907-4964-9FB2-77E0546C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7A1E98-A82F-494A-B442-54D1EFFFE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0CB58-74C5-4266-AC3E-2B8FD5AFEB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123E7D-FCCA-4C22-9009-81C4003A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649593-F7F6-447D-8800-E8FCB37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BED747-37C7-4552-9D32-3BDD14B4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090DC5-D7C9-4335-A922-FE9C6E0A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1350C-DB42-4B6E-BE0C-0D4DD729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1C72D-5267-486F-A5AA-626EF3B6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BB677-883B-4BD0-97E3-F6851715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8E2DD-5356-4DB0-B077-5D58C59D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9075B-8884-4BB5-9614-A8A18863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AA35D2-1DB0-4FCF-A146-20B63E94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186FB7-3491-4654-A11D-E2707EBE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04F2BB-F0E1-49B8-85A3-AF0F206FC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896FC6-1B7D-45C4-921E-C903A6E79A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D57230-7AA2-4303-83D3-72CD4C16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4642EE-B455-47DD-BF15-B7B872A3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E6D5347-CDF4-4C87-BB21-4B87269F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C8B089-0A7A-4880-84C6-89A0FC5D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427E8-F977-4C4C-B7E7-B6CB72AC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10A164-67A5-4D08-BF9C-777B4F0C4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24FDDC9-2EDF-435B-83CE-6DD7580D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C9CA8C-F9B7-40B5-8789-860A834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E22F71-43C7-4B3B-915E-CBE4EE3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E7E4289-BD64-4FB4-B674-4944FF61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66D621-3FA0-4E21-B378-DE15696A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CBEAF4-F912-491A-8387-38169FA1DA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983EBC-69F6-4DBE-8CDC-0D4631EDD6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AD44301-68BE-4A35-8956-5C7C242C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75E8006-C89C-4D2C-9265-A885FBA1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AB43A-526A-4944-965C-9E929C29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ADAFFB9-9C0E-4A41-ACC7-FE57A296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B0E329-8AFE-463E-9080-AFF50528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C406E8-F7E6-4B28-B491-5BCCC936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A36647-B420-45C4-8E85-E8EABE17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0BE104B-B52C-472D-A50F-7A5A17FD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FD43BFC-E108-4915-B879-8A97E033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EAA2C2-0EBC-44C0-8541-7B18CDDA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9ACA8A-05B0-49AF-B559-E853A95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CE9C245-1ACC-4621-B829-264E5E7A2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2B2A1-F2FA-4FE1-8716-3865E8F8C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A9395A-7420-4F0F-BAD1-925DB440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AC3A4-9FD8-454C-926C-7D54D9A7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E6457-70AD-48D1-A258-53AEA9F0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7CF22D-5F7D-45D5-95DE-C6B2337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001BBA-1A3A-4184-BCFB-1B860E61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8DE10-8973-4F27-BC50-47CE56892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E2BE86-9834-45C8-8058-479BCCF9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FC6D3-BB5D-46CC-90F4-DDA90CB9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92CE6-A48D-4848-B866-86FE7DC3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6CA352-4BEC-4B20-8D06-3FB66D8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32CFD1-855D-41B5-AF3F-5AE01B3C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5C9E-CBB6-412F-8DA6-92BB185A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901AB-7E75-4A7F-A08E-843A9240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8E0AE-A875-4FDF-914D-E59CC510EC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E79B18-A36D-4E0E-ABA6-94C35E5B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22868B-235E-495F-B2DF-6FFE8A9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D28E5-1B94-473C-8A06-7D674991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06EAB-242E-4E2A-9002-7D655051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4CBFF9-C972-49E0-B7AC-5A06C0A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6DD2F-CD2C-4B0D-BF71-4605EFEE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6B61EC-C61B-459E-8357-6F940E7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F80A4-4B7E-434C-83E8-220F3B28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78AD8-C0C9-4967-846D-86070A9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1C6D8-4A8A-406E-BC16-02BC525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CA17F9-176A-4F21-9000-E37BB7F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13D4B3-F0AF-4879-9B42-B382DBDEE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CFF4B-F544-41CB-8432-828C1598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B092A4-0E18-4261-B04E-CFE24DCD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DCE032-3FB8-49E6-A2A6-3955C190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63E018-A3CD-4EC8-9287-023B9994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B8E0B-58A2-4D25-8B70-D7EA2A7B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D8065-47F6-46A5-BD87-96831EF1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662325-6DCA-4DD1-BE2B-4DBED9F0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418B5-F0D5-4F8B-86D4-EF2ADC44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16DC54-8992-49AC-9B90-D902E85F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DB8A5-15AD-4987-ACE6-65DE5055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C6704E-42A0-4B46-8FC5-71B22A72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50414-E3BF-4417-96C1-DF5448DA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5225A0-9513-47EE-888F-79A2BC21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1CFB3-19A1-4AFD-9042-8BD2C80C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1F9709-FFA1-43A0-861B-C7DFEC9A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0C00D5-E832-413E-817A-71A5B92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E02C6-13BF-434D-BFC3-A8637854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C971C1-44E2-4741-AA89-C10BF7B9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F453B9-50A7-4F18-B5B2-A3126C65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83965-D7F4-43D0-9314-05C2ECFC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F24E32-A91D-40AD-92BC-64347C9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2ACF23-3193-4111-9401-0BABC149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59A69F-D93C-4FBC-8EBB-B0B4552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45EE79-FC9B-4A61-96D5-3BC0232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530F2-A1BE-4706-9BB6-02699569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DE55F-8089-4433-A30E-1B192D2C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E8BF9-43B8-4E9B-BF30-E8F24565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C3C75-0E00-4DA8-998C-9CB127B91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267AD-F7E2-433C-B948-862FA27A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B8296-429F-4653-B02C-350A033C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898F6-A276-488F-8713-1C020357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0511B0-A45A-4A6F-B970-8F7FAB20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E02D55-FCB1-47EF-BF27-526BB805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591B7F-6C1B-43E5-8F80-C6EFAB5E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C00A8-18F2-4B1C-B395-0274EB86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490BC8-4935-4BA7-9B32-3A19550B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A2D493-F073-4D46-A214-0F856DE2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4E835C-A935-46FE-B11A-734E1298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466EED-180C-479A-8747-6CBBDB2F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E32E4-C230-4C75-B117-54C9ABFE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E688C3-3E7C-4741-B300-FB2D25F9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790A9F-566E-496E-8ED1-0D6E45C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0593D9-9B38-4C35-8ED7-C33BC144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2AE938-8D31-4E98-ABE3-7240FF38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1E3420-800C-4501-A306-8E2B77D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6A3E36-7C6D-47B0-B20B-0B02C39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C21BA2-7704-48E5-A983-4B51C7AB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095803-5AA5-40B2-87B6-E7413EA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6820C-6C63-496F-8163-EBA05AC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3C4FC0-F188-4FC4-9D2D-E8A72FA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748576-17E7-4A4E-9BBD-71190314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C1CA4-A4AB-4CDB-9C36-0682079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A16D2D-8AB2-4D84-B027-6D6C84D9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E08856-1F8D-4440-BC33-D838DCAA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C83E84-2732-4B9A-9EF9-3B8A0864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C0C455-DD1A-4508-8069-4D281F50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79062E-07C2-4AD3-98E3-54DB7FB3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A1D96-84DF-4964-8B04-DC009AE6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F373C-5046-46FE-BE49-997761FE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0D4C3-8D31-4CA3-B758-51E56173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7C2AF-125A-4AE9-9F3A-51FE347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0BC5E-55B9-463F-B784-D889A22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65910E-723F-4E43-B9CB-3B165C8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D2DD-7C95-4D1A-B7B1-7CFB0430F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FF973D-7BB1-4C6C-9795-D2184650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DA460C-8EAC-4230-B6D7-C789A89D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2BDEE7-A619-40C2-BB05-331378CF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7D2E8-E69E-4AA2-9CEE-F43471C4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3BAECC-BFAA-48D0-BF27-9F1593F5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71A134-2796-4C4A-B17A-12DF17B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3A5091-672F-4D81-9964-42E3F86B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1D73E-653F-4FED-824C-A3A604A3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5D698-5F3C-402E-9F1D-15E7F32A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19AE1-3B50-4125-BF9F-1256ABEE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7E3C-C031-412F-BD74-436E35C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D9B6AA-1AE8-4A8E-8717-FBBC3923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FB9EE2-BF27-454B-9021-D279239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705CD7-5933-4209-9C7F-672F241B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F72406-CFF3-4918-B7AF-AC33C335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B2C477-4906-4E37-9A53-D91D0F31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929D66-05D0-4CA4-8DB5-7D80CBFC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93BD08-3D02-4780-96DA-902FF4A9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BB0DA-5159-4F75-8CF6-E9B504B9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BB432E-06CE-4EAF-B150-35EF6D74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6BD9FD-E796-4CBA-8FA5-01D86488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25A7-E6F2-4FC6-A4D4-BC46C1D5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65799C-9E9E-46D0-AA82-9A1FC9A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A42BE-F304-4006-B55C-EC439F5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469FE2-A408-4599-8E79-66168A7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F6BFF-2135-4AEE-A01D-6837B3CC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B30942-7995-4D66-A997-09FAF5EA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D27AD2-71FD-409E-BDE9-C4CC8021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30AEA7-DE3B-47F2-9FDC-9554191A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21A683-AC0F-46EC-B635-A8FF69C6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E215E0-86E6-494C-939F-9D679715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0E8C93-82DF-481D-9C3D-7EF9AB3D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B9A9-759B-433B-8538-2D174AE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50A3A-08C1-424A-A2A2-E1E7F18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33B7B-3444-4E4E-8B35-00E4B07C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28B518-9047-4F73-B247-0A36953A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378852-B225-49DB-92DC-05B1914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F2F222-FDE3-4D37-95FA-99EE9DA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283F83-1AB1-44BB-AE5E-4F2853E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0A7C941-E7BC-40D7-87DF-A84B77CE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2BAEA4-10B2-47AF-90C5-01224D8A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1A7763-7AC4-4AC8-BF1F-0962E84C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F7B3E0-1542-41A6-9870-0988361F3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74A732-5D14-428C-80FA-5AA2F60C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2E17-A9EC-4015-8E23-AB8925B5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F2C760-3D7D-419C-9731-6A8EA87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145432-0BF7-4AAA-B17F-534A023C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1F6C1E-8A38-4DDA-B73E-2E9A6C1B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9B124C-0133-4DFA-897F-0EF4C95F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E242CB-0A60-4588-8091-EA89D203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B91D23-022C-4851-85B7-94956E1C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0A4284-2551-44B0-8F0B-FDE5E8A2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E84B8-74D9-4C9D-8411-E87FFBE2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E5C800-3576-4029-899F-0748AB17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E9331C-3032-4474-B7B9-B6ED585B6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A6A0-1663-4807-90B0-AA129081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D448CA-81E7-4F4A-9CDD-01D2414D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62C5AF-49C7-44A7-AD6D-D1C14D81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A3182BB-803B-4D65-881E-98013DBA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7A2F2A-4045-435E-AD9E-766A6592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2BC19-10BE-4C47-BFAA-F6F57DB8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6048BB-52F1-4E53-BC67-24C5A601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5D1EE4-240F-49B1-9DD4-650013FF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8A7430-B164-415A-81D0-54D6F2C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C65FF3-4159-48F7-A310-F0761D1B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CED65B-1305-44A5-B648-FB240F1B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92BD-B741-444C-98F5-46FE386E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752032-1489-4789-AA5C-7497BEA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547BE8-D511-4779-90DF-2650C2ED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D28D46-B74F-4AEB-AECC-2290AF0A9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2820-8C60-4E6D-A579-A441CD6A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BB965-3234-4B38-A0BD-9395B54F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37596-D015-4452-8C7B-7D4431D7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B9FA-134A-45A8-9BED-9246E4E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73BE-7DD7-4FEA-BF9A-786A01383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8E9EC6-8391-45EB-8FE3-1A9766C48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162C3-5DD5-4538-822B-5C28922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3CC7E2-3A3C-4F2B-A3DA-1B1FFA55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66388-344B-4469-B87E-6D08369F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6B4F1-6F4A-4291-9AC9-A2CF15F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5086B-F6FB-4141-87AA-FD569AA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FC6E5D-C1EA-45AD-AAAA-23353F9E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B7115-1A4C-4126-8FEA-6D3AF108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BD1175-3434-4ADF-BD16-942F2055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07143-96F3-4D4D-965A-F1C99F20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2C59A1-6643-46C0-9A6C-ED22F28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811C7A-BC39-4DAF-B27E-5337FC8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1A72-5FBA-446C-BDD1-AB1CA2B7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550DFF-7A5D-4662-88B7-C94DD6365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923B2E-245E-40DE-957F-D204B91171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01F9D-4E37-42C0-92AB-EB3250C2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C791A1-FDAD-467A-B131-446E1FCF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8AEBA2-1EA1-4A44-980A-30C909BE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13C3C4-C4F2-4E10-A2C9-64545F2F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EA1F1-A265-4C76-B4EB-C60F447F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CB463A-8C5C-4F4C-A4AD-244F387F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581BA8-E88C-4050-94C7-19BD5D0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25F324-EE41-4D49-96B0-18E7439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D727-B2FD-4205-997A-E63B7459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BE5A34-9974-4D1C-8E1D-7B5964CA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BF88D8-A0F3-4484-BA07-52C5A017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D0B67C-B0C1-459A-98BE-3132D0690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5E6F-D8D2-47F3-9DB6-FBC9032DD5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3365-75CD-4DDC-8EE8-66E481D8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D15E-1C21-45E4-871B-5C4AEC1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93705-98DF-4B49-A0CA-795091C3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B273-32BE-49DD-AE28-FDF09338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FC3B4-B83B-48F7-9D54-3C562AA8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7D7B-4944-4E85-97AB-43300837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F08B7-82B9-4EBC-A97D-C02527F1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EF6F6-CAEB-42EE-889C-27A4CB75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643D-3995-40A4-A6BA-B15E42A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47F4-6789-44FD-ABF5-EBC48EC3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7EB0-B84E-456C-AE67-751FDF5B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33321-4BE0-47E0-8A15-366A30A83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3550C-C354-47CA-AA76-6B71B3A273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275EA-8DBE-4376-81C5-16F6142C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AAD26-E2AE-4F95-9F09-D73CF349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819742-EE77-4925-826F-6BE927A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43DE7-EF1C-4BF4-8ACD-973D4306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F379-6DCF-4925-B11E-970301BD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0D1DB-FD74-4774-A406-F67DACE0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32EB20-51BD-44C5-8376-7B27EF18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5DCFB-1458-4320-A2F8-75E017CB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A46ED8-4C99-4D9E-8EDC-0457F56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48DE7-4EEB-4EB2-86FF-1C2E7C2E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54F67-E1C2-4BA3-8F7E-6BC1FF06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79E1C-8B8F-4908-8D9A-B0FCDBE90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B6248F-2AF2-4275-B34D-2B8E8E075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AD85E8-EEF0-4EFC-89BB-5C97F637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C4D008-CF82-4CFC-8DA1-FAB55C90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969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969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969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970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970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970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970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48C0-1E54-4B2E-A92F-0135BF06F89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CD7C-05C1-472D-9B8A-90DD471301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4CA7-0A02-47BF-ACFE-EB56780DF4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2AD4-B969-47AE-9204-D5612A162A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2F6C-1381-44BA-857D-B6C991A775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A394-BF16-47F7-8725-37EC0D7B3E5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FDBE-9517-40A4-9787-83F184AFEF6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4F10-C50A-4C6A-943A-77EB5B45C7B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CAB1-8677-44C3-8FC9-7B3B940B7D8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A830-2CED-4F67-AD03-343E7B0A5D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BE8-95A5-438D-A3C7-9186B46E610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300-442A-4708-BADE-DC431BA3314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C3D9-D2F5-4C5E-B8D5-C130BF038A8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B6BB-3321-4422-B388-43D8011FAC6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99B4-36A4-4112-82C2-53435D0E170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B488-B4EC-4A9B-9EAC-C28059168E9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709-9F4A-42F1-B7A1-0085907801A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86BE-E66F-45F9-8A54-751978CD67E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A852-C4DC-4138-A9D3-EFCB4DD22FA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889D-59B1-4833-911B-0175E2F254B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C254-C584-47F7-A78D-05D2E34084F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1EF4-C40F-4330-A87D-EE6AD1F56FB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271A-E3FE-4C8D-9E9E-E434C4BED04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C279-AA67-44E1-B5FD-7C0973A6CB5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76F-E0D1-46D0-A727-68220471375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B0C1-EFA1-4599-9D21-6B9C1DCA0EF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4B5-BCAF-4232-A065-8EA9D7E8B9F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E1C0-FD92-48C2-91D0-6BAFA8BA24F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30D-2194-4C95-8BE3-B6E9C6FC4DA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8755-7818-4EBB-885E-6038EFC3C23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072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072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072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072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072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072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072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8CA1-C1D2-4A87-B547-BF675B19C1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F472-CFAD-42B0-ABB2-925ABDC915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B213-28AC-412E-96E9-618840DC72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10EF-8F2E-4457-95D8-5CBBCD26A6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2B5-8F58-4D18-9728-0F1DF50A5F8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D10-BFBF-4ACB-93FC-3ABB22EB51B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5601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5602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47628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乘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 Box 5"/>
          <p:cNvSpPr/>
          <p:nvPr/>
        </p:nvSpPr>
        <p:spPr>
          <a:xfrm>
            <a:off x="1690560" y="2006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分数乘小数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一、复习导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1260360" y="148428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直接说出得数。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直接说出得数，并说说你是怎样想的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7" name="组合 19460"/>
          <p:cNvGrpSpPr/>
          <p:nvPr/>
        </p:nvGrpSpPr>
        <p:grpSpPr>
          <a:xfrm>
            <a:off x="1401840" y="2209680"/>
            <a:ext cx="1146960" cy="815400"/>
            <a:chOff x="1401840" y="2209680"/>
            <a:chExt cx="1146960" cy="815400"/>
          </a:xfrm>
        </p:grpSpPr>
        <p:sp>
          <p:nvSpPr>
            <p:cNvPr id="1488" name="Text Box 8"/>
            <p:cNvSpPr/>
            <p:nvPr/>
          </p:nvSpPr>
          <p:spPr>
            <a:xfrm>
              <a:off x="1401840" y="2441520"/>
              <a:ext cx="82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4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89" name="组合 19462"/>
            <p:cNvGrpSpPr/>
            <p:nvPr/>
          </p:nvGrpSpPr>
          <p:grpSpPr>
            <a:xfrm>
              <a:off x="2035080" y="2209680"/>
              <a:ext cx="513720" cy="815400"/>
              <a:chOff x="2035080" y="2209680"/>
              <a:chExt cx="513720" cy="815400"/>
            </a:xfrm>
          </p:grpSpPr>
          <p:sp>
            <p:nvSpPr>
              <p:cNvPr id="1490" name="文本框 19463"/>
              <p:cNvSpPr/>
              <p:nvPr/>
            </p:nvSpPr>
            <p:spPr>
              <a:xfrm>
                <a:off x="2044080" y="2565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1" name="文本框 19464"/>
              <p:cNvSpPr/>
              <p:nvPr/>
            </p:nvSpPr>
            <p:spPr>
              <a:xfrm>
                <a:off x="2057040" y="22096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2" name="直接连接符 19465"/>
              <p:cNvSpPr/>
              <p:nvPr/>
            </p:nvSpPr>
            <p:spPr>
              <a:xfrm>
                <a:off x="2035080" y="262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493" name="组合 19466"/>
          <p:cNvGrpSpPr/>
          <p:nvPr/>
        </p:nvGrpSpPr>
        <p:grpSpPr>
          <a:xfrm>
            <a:off x="3886200" y="2178000"/>
            <a:ext cx="1453680" cy="815400"/>
            <a:chOff x="3886200" y="2178000"/>
            <a:chExt cx="1453680" cy="815400"/>
          </a:xfrm>
        </p:grpSpPr>
        <p:sp>
          <p:nvSpPr>
            <p:cNvPr id="1494" name="文本框 19467"/>
            <p:cNvSpPr/>
            <p:nvPr/>
          </p:nvSpPr>
          <p:spPr>
            <a:xfrm>
              <a:off x="4246200" y="23954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5" name="组合 19468"/>
            <p:cNvGrpSpPr/>
            <p:nvPr/>
          </p:nvGrpSpPr>
          <p:grpSpPr>
            <a:xfrm>
              <a:off x="3886200" y="2178000"/>
              <a:ext cx="504720" cy="815400"/>
              <a:chOff x="3886200" y="2178000"/>
              <a:chExt cx="504720" cy="815400"/>
            </a:xfrm>
          </p:grpSpPr>
          <p:sp>
            <p:nvSpPr>
              <p:cNvPr id="1496" name="文本框 19469"/>
              <p:cNvSpPr/>
              <p:nvPr/>
            </p:nvSpPr>
            <p:spPr>
              <a:xfrm>
                <a:off x="3886200" y="2533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7" name="文本框 19470"/>
              <p:cNvSpPr/>
              <p:nvPr/>
            </p:nvSpPr>
            <p:spPr>
              <a:xfrm>
                <a:off x="3957480" y="2178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8" name="直接连接符 19471"/>
              <p:cNvSpPr/>
              <p:nvPr/>
            </p:nvSpPr>
            <p:spPr>
              <a:xfrm>
                <a:off x="3935520" y="2597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499" name="组合 19472"/>
          <p:cNvGrpSpPr/>
          <p:nvPr/>
        </p:nvGrpSpPr>
        <p:grpSpPr>
          <a:xfrm>
            <a:off x="6048360" y="2205000"/>
            <a:ext cx="1453680" cy="815400"/>
            <a:chOff x="6048360" y="2205000"/>
            <a:chExt cx="1453680" cy="815400"/>
          </a:xfrm>
        </p:grpSpPr>
        <p:sp>
          <p:nvSpPr>
            <p:cNvPr id="1500" name="文本框 19473"/>
            <p:cNvSpPr/>
            <p:nvPr/>
          </p:nvSpPr>
          <p:spPr>
            <a:xfrm>
              <a:off x="6408360" y="242244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1" name="组合 19474"/>
            <p:cNvGrpSpPr/>
            <p:nvPr/>
          </p:nvGrpSpPr>
          <p:grpSpPr>
            <a:xfrm>
              <a:off x="6048360" y="2205000"/>
              <a:ext cx="504720" cy="815400"/>
              <a:chOff x="6048360" y="2205000"/>
              <a:chExt cx="504720" cy="815400"/>
            </a:xfrm>
          </p:grpSpPr>
          <p:sp>
            <p:nvSpPr>
              <p:cNvPr id="1502" name="文本框 19475"/>
              <p:cNvSpPr/>
              <p:nvPr/>
            </p:nvSpPr>
            <p:spPr>
              <a:xfrm>
                <a:off x="6048360" y="256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3" name="文本框 19476"/>
              <p:cNvSpPr/>
              <p:nvPr/>
            </p:nvSpPr>
            <p:spPr>
              <a:xfrm>
                <a:off x="6119640" y="2205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4" name="直接连接符 19477"/>
              <p:cNvSpPr/>
              <p:nvPr/>
            </p:nvSpPr>
            <p:spPr>
              <a:xfrm>
                <a:off x="6097680" y="262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05" name="组合 19478"/>
          <p:cNvGrpSpPr/>
          <p:nvPr/>
        </p:nvGrpSpPr>
        <p:grpSpPr>
          <a:xfrm>
            <a:off x="1585800" y="3530520"/>
            <a:ext cx="1396800" cy="815040"/>
            <a:chOff x="1585800" y="3530520"/>
            <a:chExt cx="1396800" cy="815040"/>
          </a:xfrm>
        </p:grpSpPr>
        <p:sp>
          <p:nvSpPr>
            <p:cNvPr id="1506" name="文本框 19479"/>
            <p:cNvSpPr/>
            <p:nvPr/>
          </p:nvSpPr>
          <p:spPr>
            <a:xfrm>
              <a:off x="1888920" y="374796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文本框 19480"/>
            <p:cNvSpPr/>
            <p:nvPr/>
          </p:nvSpPr>
          <p:spPr>
            <a:xfrm>
              <a:off x="1585800" y="38858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8" name="文本框 19481"/>
            <p:cNvSpPr/>
            <p:nvPr/>
          </p:nvSpPr>
          <p:spPr>
            <a:xfrm>
              <a:off x="1599840" y="35305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9" name="直接连接符 19482"/>
            <p:cNvSpPr/>
            <p:nvPr/>
          </p:nvSpPr>
          <p:spPr>
            <a:xfrm>
              <a:off x="1606320" y="3949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0" name="组合 19483"/>
          <p:cNvGrpSpPr/>
          <p:nvPr/>
        </p:nvGrpSpPr>
        <p:grpSpPr>
          <a:xfrm>
            <a:off x="3933720" y="3540240"/>
            <a:ext cx="1396800" cy="815040"/>
            <a:chOff x="3933720" y="3540240"/>
            <a:chExt cx="1396800" cy="815040"/>
          </a:xfrm>
        </p:grpSpPr>
        <p:sp>
          <p:nvSpPr>
            <p:cNvPr id="1511" name="文本框 19484"/>
            <p:cNvSpPr/>
            <p:nvPr/>
          </p:nvSpPr>
          <p:spPr>
            <a:xfrm>
              <a:off x="4236840" y="375768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2" name="文本框 19485"/>
            <p:cNvSpPr/>
            <p:nvPr/>
          </p:nvSpPr>
          <p:spPr>
            <a:xfrm>
              <a:off x="3933720" y="3895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3" name="文本框 19486"/>
            <p:cNvSpPr/>
            <p:nvPr/>
          </p:nvSpPr>
          <p:spPr>
            <a:xfrm>
              <a:off x="3947760" y="35402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4" name="直接连接符 19487"/>
            <p:cNvSpPr/>
            <p:nvPr/>
          </p:nvSpPr>
          <p:spPr>
            <a:xfrm>
              <a:off x="3954240" y="395928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5" name="组合 19488"/>
          <p:cNvGrpSpPr/>
          <p:nvPr/>
        </p:nvGrpSpPr>
        <p:grpSpPr>
          <a:xfrm>
            <a:off x="6173640" y="3573360"/>
            <a:ext cx="1396800" cy="815040"/>
            <a:chOff x="6173640" y="3573360"/>
            <a:chExt cx="1396800" cy="815040"/>
          </a:xfrm>
        </p:grpSpPr>
        <p:sp>
          <p:nvSpPr>
            <p:cNvPr id="1516" name="文本框 19489"/>
            <p:cNvSpPr/>
            <p:nvPr/>
          </p:nvSpPr>
          <p:spPr>
            <a:xfrm>
              <a:off x="6476760" y="3790800"/>
              <a:ext cx="109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7" name="文本框 19490"/>
            <p:cNvSpPr/>
            <p:nvPr/>
          </p:nvSpPr>
          <p:spPr>
            <a:xfrm>
              <a:off x="6173640" y="3928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8" name="文本框 19491"/>
            <p:cNvSpPr/>
            <p:nvPr/>
          </p:nvSpPr>
          <p:spPr>
            <a:xfrm>
              <a:off x="6187680" y="3573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19" name="直接连接符 19492"/>
            <p:cNvSpPr/>
            <p:nvPr/>
          </p:nvSpPr>
          <p:spPr>
            <a:xfrm>
              <a:off x="6194160" y="3992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0" name="组合 19493"/>
          <p:cNvGrpSpPr/>
          <p:nvPr/>
        </p:nvGrpSpPr>
        <p:grpSpPr>
          <a:xfrm>
            <a:off x="2341440" y="2214720"/>
            <a:ext cx="1094040" cy="805680"/>
            <a:chOff x="2341440" y="2214720"/>
            <a:chExt cx="1094040" cy="805680"/>
          </a:xfrm>
        </p:grpSpPr>
        <p:sp>
          <p:nvSpPr>
            <p:cNvPr id="1521" name="文本框 19494"/>
            <p:cNvSpPr/>
            <p:nvPr/>
          </p:nvSpPr>
          <p:spPr>
            <a:xfrm>
              <a:off x="2341440" y="24210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文本框 19495"/>
            <p:cNvSpPr/>
            <p:nvPr/>
          </p:nvSpPr>
          <p:spPr>
            <a:xfrm>
              <a:off x="2762280" y="2560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3" name="文本框 19496"/>
            <p:cNvSpPr/>
            <p:nvPr/>
          </p:nvSpPr>
          <p:spPr>
            <a:xfrm>
              <a:off x="2755800" y="221472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4" name="直接连接符 19497"/>
            <p:cNvSpPr/>
            <p:nvPr/>
          </p:nvSpPr>
          <p:spPr>
            <a:xfrm>
              <a:off x="2774880" y="26370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25" name="文本框 19498"/>
          <p:cNvSpPr/>
          <p:nvPr/>
        </p:nvSpPr>
        <p:spPr>
          <a:xfrm>
            <a:off x="2344680" y="37339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0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6" name="文本框 19499"/>
          <p:cNvSpPr/>
          <p:nvPr/>
        </p:nvSpPr>
        <p:spPr>
          <a:xfrm>
            <a:off x="6966000" y="376884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27" name="组合 19500"/>
          <p:cNvGrpSpPr/>
          <p:nvPr/>
        </p:nvGrpSpPr>
        <p:grpSpPr>
          <a:xfrm>
            <a:off x="4643280" y="2165400"/>
            <a:ext cx="1094040" cy="805680"/>
            <a:chOff x="4643280" y="2165400"/>
            <a:chExt cx="1094040" cy="805680"/>
          </a:xfrm>
        </p:grpSpPr>
        <p:sp>
          <p:nvSpPr>
            <p:cNvPr id="1528" name="文本框 19501"/>
            <p:cNvSpPr/>
            <p:nvPr/>
          </p:nvSpPr>
          <p:spPr>
            <a:xfrm>
              <a:off x="4643280" y="23716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9" name="文本框 19502"/>
            <p:cNvSpPr/>
            <p:nvPr/>
          </p:nvSpPr>
          <p:spPr>
            <a:xfrm>
              <a:off x="5064120" y="251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0" name="文本框 19503"/>
            <p:cNvSpPr/>
            <p:nvPr/>
          </p:nvSpPr>
          <p:spPr>
            <a:xfrm>
              <a:off x="5057640" y="2165400"/>
              <a:ext cx="6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1" name="直接连接符 19504"/>
            <p:cNvSpPr/>
            <p:nvPr/>
          </p:nvSpPr>
          <p:spPr>
            <a:xfrm>
              <a:off x="5076720" y="25876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2" name="组合 19505"/>
          <p:cNvGrpSpPr/>
          <p:nvPr/>
        </p:nvGrpSpPr>
        <p:grpSpPr>
          <a:xfrm>
            <a:off x="6854760" y="2193840"/>
            <a:ext cx="1093320" cy="805680"/>
            <a:chOff x="6854760" y="2193840"/>
            <a:chExt cx="1093320" cy="805680"/>
          </a:xfrm>
        </p:grpSpPr>
        <p:sp>
          <p:nvSpPr>
            <p:cNvPr id="1533" name="文本框 19506"/>
            <p:cNvSpPr/>
            <p:nvPr/>
          </p:nvSpPr>
          <p:spPr>
            <a:xfrm>
              <a:off x="6854760" y="240012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4" name="文本框 19507"/>
            <p:cNvSpPr/>
            <p:nvPr/>
          </p:nvSpPr>
          <p:spPr>
            <a:xfrm>
              <a:off x="7275240" y="25398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文本框 19508"/>
            <p:cNvSpPr/>
            <p:nvPr/>
          </p:nvSpPr>
          <p:spPr>
            <a:xfrm>
              <a:off x="7268760" y="21938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直接连接符 19509"/>
            <p:cNvSpPr/>
            <p:nvPr/>
          </p:nvSpPr>
          <p:spPr>
            <a:xfrm>
              <a:off x="7287840" y="261612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7" name="组合 19510"/>
          <p:cNvGrpSpPr/>
          <p:nvPr/>
        </p:nvGrpSpPr>
        <p:grpSpPr>
          <a:xfrm>
            <a:off x="4672080" y="3533760"/>
            <a:ext cx="1093320" cy="805680"/>
            <a:chOff x="4672080" y="3533760"/>
            <a:chExt cx="1093320" cy="805680"/>
          </a:xfrm>
        </p:grpSpPr>
        <p:sp>
          <p:nvSpPr>
            <p:cNvPr id="1538" name="文本框 19511"/>
            <p:cNvSpPr/>
            <p:nvPr/>
          </p:nvSpPr>
          <p:spPr>
            <a:xfrm>
              <a:off x="4672080" y="37400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9" name="文本框 19512"/>
            <p:cNvSpPr/>
            <p:nvPr/>
          </p:nvSpPr>
          <p:spPr>
            <a:xfrm>
              <a:off x="5092560" y="38797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0" name="文本框 19513"/>
            <p:cNvSpPr/>
            <p:nvPr/>
          </p:nvSpPr>
          <p:spPr>
            <a:xfrm>
              <a:off x="5086080" y="35337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1" name="直接连接符 19514"/>
            <p:cNvSpPr/>
            <p:nvPr/>
          </p:nvSpPr>
          <p:spPr>
            <a:xfrm>
              <a:off x="5105160" y="3956040"/>
              <a:ext cx="28692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2" name="矩形 19515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3" name="矩形 19516"/>
          <p:cNvSpPr/>
          <p:nvPr/>
        </p:nvSpPr>
        <p:spPr>
          <a:xfrm>
            <a:off x="846000" y="6327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"/>
          <p:cNvSpPr/>
          <p:nvPr/>
        </p:nvSpPr>
        <p:spPr>
          <a:xfrm>
            <a:off x="41400" y="52261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）出示信息，明确问题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1116000" y="2060640"/>
            <a:ext cx="27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教学例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出示信息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8" name="Text Box 7"/>
          <p:cNvSpPr/>
          <p:nvPr/>
        </p:nvSpPr>
        <p:spPr>
          <a:xfrm>
            <a:off x="1101600" y="253224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松鼠的尾巴长度约占身体长度的      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9" name="Text Box 12"/>
          <p:cNvSpPr/>
          <p:nvPr/>
        </p:nvSpPr>
        <p:spPr>
          <a:xfrm>
            <a:off x="1066680" y="4292640"/>
            <a:ext cx="38656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松鼠欢欢的尾巴有多长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松鼠乐乐的尾巴有多长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0" name="组合 20487"/>
          <p:cNvGrpSpPr/>
          <p:nvPr/>
        </p:nvGrpSpPr>
        <p:grpSpPr>
          <a:xfrm>
            <a:off x="4809960" y="2344680"/>
            <a:ext cx="522360" cy="815400"/>
            <a:chOff x="4809960" y="2344680"/>
            <a:chExt cx="522360" cy="815400"/>
          </a:xfrm>
        </p:grpSpPr>
        <p:sp>
          <p:nvSpPr>
            <p:cNvPr id="1551" name="文本框 20488"/>
            <p:cNvSpPr/>
            <p:nvPr/>
          </p:nvSpPr>
          <p:spPr>
            <a:xfrm>
              <a:off x="4827600" y="2700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2" name="文本框 20489"/>
            <p:cNvSpPr/>
            <p:nvPr/>
          </p:nvSpPr>
          <p:spPr>
            <a:xfrm>
              <a:off x="4832280" y="23446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3" name="直接连接符 20490"/>
            <p:cNvSpPr/>
            <p:nvPr/>
          </p:nvSpPr>
          <p:spPr>
            <a:xfrm>
              <a:off x="4809960" y="2763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4" name="组合 20491"/>
          <p:cNvGrpSpPr/>
          <p:nvPr/>
        </p:nvGrpSpPr>
        <p:grpSpPr>
          <a:xfrm>
            <a:off x="266760" y="2852640"/>
            <a:ext cx="3873240" cy="1549440"/>
            <a:chOff x="266760" y="2852640"/>
            <a:chExt cx="3873240" cy="1549440"/>
          </a:xfrm>
        </p:grpSpPr>
        <p:grpSp>
          <p:nvGrpSpPr>
            <p:cNvPr id="1555" name="组合 20492"/>
            <p:cNvGrpSpPr/>
            <p:nvPr/>
          </p:nvGrpSpPr>
          <p:grpSpPr>
            <a:xfrm>
              <a:off x="266760" y="2852640"/>
              <a:ext cx="2089080" cy="1549440"/>
              <a:chOff x="266760" y="2852640"/>
              <a:chExt cx="2089080" cy="1549440"/>
            </a:xfrm>
          </p:grpSpPr>
          <p:pic>
            <p:nvPicPr>
              <p:cNvPr id="1556" name="图片 20493" descr="欢欢"/>
              <p:cNvPicPr/>
              <p:nvPr/>
            </p:nvPicPr>
            <p:blipFill>
              <a:blip r:embed="rId1"/>
              <a:stretch/>
            </p:blipFill>
            <p:spPr>
              <a:xfrm>
                <a:off x="266760" y="2852640"/>
                <a:ext cx="12416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7" name="文本框 20494"/>
              <p:cNvSpPr/>
              <p:nvPr/>
            </p:nvSpPr>
            <p:spPr>
              <a:xfrm>
                <a:off x="1419480" y="400320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欢欢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58" name="AutoShape 27"/>
            <p:cNvSpPr/>
            <p:nvPr/>
          </p:nvSpPr>
          <p:spPr>
            <a:xfrm>
              <a:off x="1765440" y="3082680"/>
              <a:ext cx="2374560" cy="50472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身体长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d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9" name="组合 20496"/>
          <p:cNvGrpSpPr/>
          <p:nvPr/>
        </p:nvGrpSpPr>
        <p:grpSpPr>
          <a:xfrm>
            <a:off x="4484520" y="2852640"/>
            <a:ext cx="4056120" cy="1651320"/>
            <a:chOff x="4484520" y="2852640"/>
            <a:chExt cx="4056120" cy="1651320"/>
          </a:xfrm>
        </p:grpSpPr>
        <p:grpSp>
          <p:nvGrpSpPr>
            <p:cNvPr id="1560" name="组合 20497"/>
            <p:cNvGrpSpPr/>
            <p:nvPr/>
          </p:nvGrpSpPr>
          <p:grpSpPr>
            <a:xfrm>
              <a:off x="6588000" y="2852640"/>
              <a:ext cx="1952640" cy="1651320"/>
              <a:chOff x="6588000" y="2852640"/>
              <a:chExt cx="1952640" cy="1651320"/>
            </a:xfrm>
          </p:grpSpPr>
          <p:pic>
            <p:nvPicPr>
              <p:cNvPr id="1561" name="图片 20498" descr="乐乐"/>
              <p:cNvPicPr/>
              <p:nvPr/>
            </p:nvPicPr>
            <p:blipFill>
              <a:blip r:embed="rId2"/>
              <a:stretch/>
            </p:blipFill>
            <p:spPr>
              <a:xfrm>
                <a:off x="7057800" y="2852640"/>
                <a:ext cx="1482840" cy="143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2" name="文本框 20499"/>
              <p:cNvSpPr/>
              <p:nvPr/>
            </p:nvSpPr>
            <p:spPr>
              <a:xfrm>
                <a:off x="6588000" y="41050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乐乐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3" name="AutoShape 27"/>
            <p:cNvSpPr/>
            <p:nvPr/>
          </p:nvSpPr>
          <p:spPr>
            <a:xfrm>
              <a:off x="4484520" y="3322440"/>
              <a:ext cx="2374920" cy="50472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身体长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d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4" name="组合 20501"/>
          <p:cNvGrpSpPr/>
          <p:nvPr/>
        </p:nvGrpSpPr>
        <p:grpSpPr>
          <a:xfrm>
            <a:off x="828720" y="5805360"/>
            <a:ext cx="8567640" cy="953640"/>
            <a:chOff x="828720" y="5805360"/>
            <a:chExt cx="8567640" cy="953640"/>
          </a:xfrm>
        </p:grpSpPr>
        <p:sp>
          <p:nvSpPr>
            <p:cNvPr id="1565" name="Rectangle 2"/>
            <p:cNvSpPr/>
            <p:nvPr/>
          </p:nvSpPr>
          <p:spPr>
            <a:xfrm>
              <a:off x="828720" y="5805360"/>
              <a:ext cx="85676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要求“松鼠欢欢的尾巴有多长”怎样列式？你是怎样想的？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(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“松鼠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欢欢的尾巴有多长”列式：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1×       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就是求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4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的        是多少。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6" name="组合 20503"/>
            <p:cNvGrpSpPr/>
            <p:nvPr/>
          </p:nvGrpSpPr>
          <p:grpSpPr>
            <a:xfrm>
              <a:off x="4788000" y="5934240"/>
              <a:ext cx="545760" cy="815040"/>
              <a:chOff x="4788000" y="5934240"/>
              <a:chExt cx="545760" cy="815040"/>
            </a:xfrm>
          </p:grpSpPr>
          <p:sp>
            <p:nvSpPr>
              <p:cNvPr id="1567" name="文本框 20504"/>
              <p:cNvSpPr/>
              <p:nvPr/>
            </p:nvSpPr>
            <p:spPr>
              <a:xfrm>
                <a:off x="4806360" y="6289560"/>
                <a:ext cx="52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8" name="文本框 20505"/>
              <p:cNvSpPr/>
              <p:nvPr/>
            </p:nvSpPr>
            <p:spPr>
              <a:xfrm>
                <a:off x="4811040" y="5934240"/>
                <a:ext cx="376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直接连接符 20506"/>
              <p:cNvSpPr/>
              <p:nvPr/>
            </p:nvSpPr>
            <p:spPr>
              <a:xfrm>
                <a:off x="4788000" y="6352920"/>
                <a:ext cx="37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0" name="组合 20507"/>
            <p:cNvGrpSpPr/>
            <p:nvPr/>
          </p:nvGrpSpPr>
          <p:grpSpPr>
            <a:xfrm>
              <a:off x="6699240" y="5943600"/>
              <a:ext cx="547200" cy="815400"/>
              <a:chOff x="6699240" y="5943600"/>
              <a:chExt cx="547200" cy="815400"/>
            </a:xfrm>
          </p:grpSpPr>
          <p:sp>
            <p:nvSpPr>
              <p:cNvPr id="1571" name="文本框 20508"/>
              <p:cNvSpPr/>
              <p:nvPr/>
            </p:nvSpPr>
            <p:spPr>
              <a:xfrm>
                <a:off x="6717600" y="6299280"/>
                <a:ext cx="52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2" name="文本框 20509"/>
              <p:cNvSpPr/>
              <p:nvPr/>
            </p:nvSpPr>
            <p:spPr>
              <a:xfrm>
                <a:off x="6722280" y="5943600"/>
                <a:ext cx="37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直接连接符 20510"/>
              <p:cNvSpPr/>
              <p:nvPr/>
            </p:nvSpPr>
            <p:spPr>
              <a:xfrm>
                <a:off x="6699240" y="6362640"/>
                <a:ext cx="37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6" name="Text Box 4"/>
          <p:cNvSpPr/>
          <p:nvPr/>
        </p:nvSpPr>
        <p:spPr>
          <a:xfrm>
            <a:off x="1260360" y="2276640"/>
            <a:ext cx="49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计算呢？请你试一试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7" name="Text Box 14"/>
          <p:cNvSpPr/>
          <p:nvPr/>
        </p:nvSpPr>
        <p:spPr>
          <a:xfrm>
            <a:off x="1320840" y="4538520"/>
            <a:ext cx="14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Text Box 15"/>
          <p:cNvSpPr/>
          <p:nvPr/>
        </p:nvSpPr>
        <p:spPr>
          <a:xfrm>
            <a:off x="2233440" y="45385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1×0.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57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Text Box 16"/>
          <p:cNvSpPr/>
          <p:nvPr/>
        </p:nvSpPr>
        <p:spPr>
          <a:xfrm>
            <a:off x="1332000" y="3933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研讨问题：你是怎样想的？（把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转成分数进行计算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80" name="组合 21511"/>
          <p:cNvGrpSpPr/>
          <p:nvPr/>
        </p:nvGrpSpPr>
        <p:grpSpPr>
          <a:xfrm>
            <a:off x="1347840" y="2943360"/>
            <a:ext cx="4006800" cy="820080"/>
            <a:chOff x="1347840" y="2943360"/>
            <a:chExt cx="4006800" cy="820080"/>
          </a:xfrm>
        </p:grpSpPr>
        <p:sp>
          <p:nvSpPr>
            <p:cNvPr id="1581" name="Text Box 6"/>
            <p:cNvSpPr/>
            <p:nvPr/>
          </p:nvSpPr>
          <p:spPr>
            <a:xfrm>
              <a:off x="1347840" y="316224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预设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：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82" name="组合 21513"/>
            <p:cNvGrpSpPr/>
            <p:nvPr/>
          </p:nvGrpSpPr>
          <p:grpSpPr>
            <a:xfrm>
              <a:off x="2265480" y="2943360"/>
              <a:ext cx="3089160" cy="820080"/>
              <a:chOff x="2265480" y="2943360"/>
              <a:chExt cx="3089160" cy="820080"/>
            </a:xfrm>
          </p:grpSpPr>
          <p:grpSp>
            <p:nvGrpSpPr>
              <p:cNvPr id="1583" name="组合 21514"/>
              <p:cNvGrpSpPr/>
              <p:nvPr/>
            </p:nvGrpSpPr>
            <p:grpSpPr>
              <a:xfrm>
                <a:off x="2265480" y="2943360"/>
                <a:ext cx="2117520" cy="820080"/>
                <a:chOff x="2265480" y="2943360"/>
                <a:chExt cx="2117520" cy="820080"/>
              </a:xfrm>
            </p:grpSpPr>
            <p:sp>
              <p:nvSpPr>
                <p:cNvPr id="1584" name="文本框 21515"/>
                <p:cNvSpPr/>
                <p:nvPr/>
              </p:nvSpPr>
              <p:spPr>
                <a:xfrm>
                  <a:off x="2265480" y="3299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1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5" name="文本框 21516"/>
                <p:cNvSpPr/>
                <p:nvPr/>
              </p:nvSpPr>
              <p:spPr>
                <a:xfrm>
                  <a:off x="2290680" y="2943360"/>
                  <a:ext cx="48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2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86" name="直接连接符 21517"/>
                <p:cNvSpPr/>
                <p:nvPr/>
              </p:nvSpPr>
              <p:spPr>
                <a:xfrm>
                  <a:off x="2336760" y="3362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87" name="组合 21518"/>
                <p:cNvGrpSpPr/>
                <p:nvPr/>
              </p:nvGrpSpPr>
              <p:grpSpPr>
                <a:xfrm>
                  <a:off x="3144960" y="2943360"/>
                  <a:ext cx="533160" cy="815400"/>
                  <a:chOff x="3144960" y="2943360"/>
                  <a:chExt cx="533160" cy="815400"/>
                </a:xfrm>
              </p:grpSpPr>
              <p:sp>
                <p:nvSpPr>
                  <p:cNvPr id="1588" name="文本框 21519"/>
                  <p:cNvSpPr/>
                  <p:nvPr/>
                </p:nvSpPr>
                <p:spPr>
                  <a:xfrm>
                    <a:off x="3173400" y="3299040"/>
                    <a:ext cx="504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4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89" name="文本框 21520"/>
                  <p:cNvSpPr/>
                  <p:nvPr/>
                </p:nvSpPr>
                <p:spPr>
                  <a:xfrm>
                    <a:off x="3157560" y="2943360"/>
                    <a:ext cx="360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宋体"/>
                      </a:rPr>
                      <a:t>3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90" name="直接连接符 21521"/>
                  <p:cNvSpPr/>
                  <p:nvPr/>
                </p:nvSpPr>
                <p:spPr>
                  <a:xfrm>
                    <a:off x="3144960" y="33624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91" name="文本框 21522"/>
                <p:cNvSpPr/>
                <p:nvPr/>
              </p:nvSpPr>
              <p:spPr>
                <a:xfrm>
                  <a:off x="2678040" y="316404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×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2" name="文本框 21523"/>
                <p:cNvSpPr/>
                <p:nvPr/>
              </p:nvSpPr>
              <p:spPr>
                <a:xfrm>
                  <a:off x="3500280" y="3149640"/>
                  <a:ext cx="43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＝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3" name="文本框 21524"/>
                <p:cNvSpPr/>
                <p:nvPr/>
              </p:nvSpPr>
              <p:spPr>
                <a:xfrm>
                  <a:off x="3878280" y="3303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40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4" name="文本框 21525"/>
                <p:cNvSpPr/>
                <p:nvPr/>
              </p:nvSpPr>
              <p:spPr>
                <a:xfrm>
                  <a:off x="3884400" y="2948040"/>
                  <a:ext cx="482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宋体"/>
                    </a:rPr>
                    <a:t>6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5" name="直接连接符 21526"/>
                <p:cNvSpPr/>
                <p:nvPr/>
              </p:nvSpPr>
              <p:spPr>
                <a:xfrm>
                  <a:off x="3930480" y="3367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596" name="文本框 21527"/>
              <p:cNvSpPr/>
              <p:nvPr/>
            </p:nvSpPr>
            <p:spPr>
              <a:xfrm>
                <a:off x="4201920" y="3159360"/>
                <a:ext cx="115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（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  <a:ea typeface="宋体"/>
                  </a:rPr>
                  <a:t>dm</a:t>
                </a: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）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597" name="组合 21528"/>
          <p:cNvGrpSpPr/>
          <p:nvPr/>
        </p:nvGrpSpPr>
        <p:grpSpPr>
          <a:xfrm>
            <a:off x="1341360" y="4884840"/>
            <a:ext cx="6840360" cy="815040"/>
            <a:chOff x="1341360" y="4884840"/>
            <a:chExt cx="6840360" cy="815040"/>
          </a:xfrm>
        </p:grpSpPr>
        <p:sp>
          <p:nvSpPr>
            <p:cNvPr id="1598" name="Text Box 19"/>
            <p:cNvSpPr/>
            <p:nvPr/>
          </p:nvSpPr>
          <p:spPr>
            <a:xfrm>
              <a:off x="1341360" y="5086080"/>
              <a:ext cx="68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研讨问题：你是怎样想的？（把       转成小数进行计算）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99" name="组合 21530"/>
            <p:cNvGrpSpPr/>
            <p:nvPr/>
          </p:nvGrpSpPr>
          <p:grpSpPr>
            <a:xfrm>
              <a:off x="5095800" y="4884840"/>
              <a:ext cx="522360" cy="815040"/>
              <a:chOff x="5095800" y="4884840"/>
              <a:chExt cx="522360" cy="815040"/>
            </a:xfrm>
          </p:grpSpPr>
          <p:sp>
            <p:nvSpPr>
              <p:cNvPr id="1600" name="文本框 21531"/>
              <p:cNvSpPr/>
              <p:nvPr/>
            </p:nvSpPr>
            <p:spPr>
              <a:xfrm>
                <a:off x="5113440" y="5240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1" name="文本框 21532"/>
              <p:cNvSpPr/>
              <p:nvPr/>
            </p:nvSpPr>
            <p:spPr>
              <a:xfrm>
                <a:off x="5118120" y="4884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2" name="直接连接符 21533"/>
              <p:cNvSpPr/>
              <p:nvPr/>
            </p:nvSpPr>
            <p:spPr>
              <a:xfrm>
                <a:off x="5095800" y="5303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03" name="矩形 21534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6" name="Text Box 4"/>
          <p:cNvSpPr/>
          <p:nvPr/>
        </p:nvSpPr>
        <p:spPr>
          <a:xfrm>
            <a:off x="1260360" y="2205000"/>
            <a:ext cx="59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7" name="Text Box 6"/>
          <p:cNvSpPr/>
          <p:nvPr/>
        </p:nvSpPr>
        <p:spPr>
          <a:xfrm>
            <a:off x="703440" y="303228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怎样计算呢？请你试一试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8" name="Text Box 15"/>
          <p:cNvSpPr/>
          <p:nvPr/>
        </p:nvSpPr>
        <p:spPr>
          <a:xfrm>
            <a:off x="934920" y="4398840"/>
            <a:ext cx="14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9" name="Text Box 16"/>
          <p:cNvSpPr/>
          <p:nvPr/>
        </p:nvSpPr>
        <p:spPr>
          <a:xfrm>
            <a:off x="1865160" y="438948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4×0.75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＝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8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（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dm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0" name="Text Box 17"/>
          <p:cNvSpPr/>
          <p:nvPr/>
        </p:nvSpPr>
        <p:spPr>
          <a:xfrm>
            <a:off x="958680" y="502596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1" name="Text Box 19"/>
          <p:cNvSpPr/>
          <p:nvPr/>
        </p:nvSpPr>
        <p:spPr>
          <a:xfrm>
            <a:off x="3433680" y="501804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观察这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种做法，你喜欢哪一种？说说你的想法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2" name="Rectangle 2"/>
          <p:cNvSpPr/>
          <p:nvPr/>
        </p:nvSpPr>
        <p:spPr>
          <a:xfrm>
            <a:off x="704880" y="220500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要求“松鼠乐乐的尾巴有多长”怎样列式？你是怎样想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求“松鼠乐乐的尾巴有多长”列式：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4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×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）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13" name="组合 22538"/>
          <p:cNvGrpSpPr/>
          <p:nvPr/>
        </p:nvGrpSpPr>
        <p:grpSpPr>
          <a:xfrm>
            <a:off x="6145200" y="2340000"/>
            <a:ext cx="522360" cy="815400"/>
            <a:chOff x="6145200" y="2340000"/>
            <a:chExt cx="522360" cy="815400"/>
          </a:xfrm>
        </p:grpSpPr>
        <p:sp>
          <p:nvSpPr>
            <p:cNvPr id="1614" name="文本框 22539"/>
            <p:cNvSpPr/>
            <p:nvPr/>
          </p:nvSpPr>
          <p:spPr>
            <a:xfrm>
              <a:off x="6162840" y="2695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5" name="文本框 22540"/>
            <p:cNvSpPr/>
            <p:nvPr/>
          </p:nvSpPr>
          <p:spPr>
            <a:xfrm>
              <a:off x="6167520" y="2340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16" name="直接连接符 22541"/>
            <p:cNvSpPr/>
            <p:nvPr/>
          </p:nvSpPr>
          <p:spPr>
            <a:xfrm>
              <a:off x="6145200" y="2759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17" name="Text Box 6"/>
          <p:cNvSpPr/>
          <p:nvPr/>
        </p:nvSpPr>
        <p:spPr>
          <a:xfrm>
            <a:off x="938160" y="36212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预设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18" name="组合 22543"/>
          <p:cNvGrpSpPr/>
          <p:nvPr/>
        </p:nvGrpSpPr>
        <p:grpSpPr>
          <a:xfrm>
            <a:off x="1855800" y="3409920"/>
            <a:ext cx="3089160" cy="820080"/>
            <a:chOff x="1855800" y="3409920"/>
            <a:chExt cx="3089160" cy="820080"/>
          </a:xfrm>
        </p:grpSpPr>
        <p:sp>
          <p:nvSpPr>
            <p:cNvPr id="1619" name="文本框 22544"/>
            <p:cNvSpPr/>
            <p:nvPr/>
          </p:nvSpPr>
          <p:spPr>
            <a:xfrm>
              <a:off x="1855800" y="3765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0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0" name="文本框 22545"/>
            <p:cNvSpPr/>
            <p:nvPr/>
          </p:nvSpPr>
          <p:spPr>
            <a:xfrm>
              <a:off x="1881000" y="3409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1" name="直接连接符 22546"/>
            <p:cNvSpPr/>
            <p:nvPr/>
          </p:nvSpPr>
          <p:spPr>
            <a:xfrm>
              <a:off x="1927080" y="382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2" name="组合 22547"/>
            <p:cNvGrpSpPr/>
            <p:nvPr/>
          </p:nvGrpSpPr>
          <p:grpSpPr>
            <a:xfrm>
              <a:off x="2735280" y="3409920"/>
              <a:ext cx="533160" cy="815400"/>
              <a:chOff x="2735280" y="3409920"/>
              <a:chExt cx="533160" cy="815400"/>
            </a:xfrm>
          </p:grpSpPr>
          <p:sp>
            <p:nvSpPr>
              <p:cNvPr id="1623" name="文本框 22548"/>
              <p:cNvSpPr/>
              <p:nvPr/>
            </p:nvSpPr>
            <p:spPr>
              <a:xfrm>
                <a:off x="2763720" y="376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4" name="文本框 22549"/>
              <p:cNvSpPr/>
              <p:nvPr/>
            </p:nvSpPr>
            <p:spPr>
              <a:xfrm>
                <a:off x="2747880" y="34099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5" name="直接连接符 22550"/>
              <p:cNvSpPr/>
              <p:nvPr/>
            </p:nvSpPr>
            <p:spPr>
              <a:xfrm>
                <a:off x="2735280" y="38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6" name="文本框 22551"/>
            <p:cNvSpPr/>
            <p:nvPr/>
          </p:nvSpPr>
          <p:spPr>
            <a:xfrm>
              <a:off x="2268360" y="363060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×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7" name="文本框 22552"/>
            <p:cNvSpPr/>
            <p:nvPr/>
          </p:nvSpPr>
          <p:spPr>
            <a:xfrm>
              <a:off x="3090600" y="36165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8" name="文本框 22553"/>
            <p:cNvSpPr/>
            <p:nvPr/>
          </p:nvSpPr>
          <p:spPr>
            <a:xfrm>
              <a:off x="3506760" y="3770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29" name="文本框 22554"/>
            <p:cNvSpPr/>
            <p:nvPr/>
          </p:nvSpPr>
          <p:spPr>
            <a:xfrm>
              <a:off x="3512880" y="34149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9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0" name="直接连接符 22555"/>
            <p:cNvSpPr/>
            <p:nvPr/>
          </p:nvSpPr>
          <p:spPr>
            <a:xfrm>
              <a:off x="3502080" y="3834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31" name="文本框 22556"/>
            <p:cNvSpPr/>
            <p:nvPr/>
          </p:nvSpPr>
          <p:spPr>
            <a:xfrm>
              <a:off x="3792600" y="36259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d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32" name="组合 22557"/>
          <p:cNvGrpSpPr/>
          <p:nvPr/>
        </p:nvGrpSpPr>
        <p:grpSpPr>
          <a:xfrm>
            <a:off x="1688760" y="4819680"/>
            <a:ext cx="1626840" cy="1886400"/>
            <a:chOff x="1688760" y="4819680"/>
            <a:chExt cx="1626840" cy="1886400"/>
          </a:xfrm>
        </p:grpSpPr>
        <p:grpSp>
          <p:nvGrpSpPr>
            <p:cNvPr id="1633" name="组合 22558"/>
            <p:cNvGrpSpPr/>
            <p:nvPr/>
          </p:nvGrpSpPr>
          <p:grpSpPr>
            <a:xfrm>
              <a:off x="1688760" y="4819680"/>
              <a:ext cx="1545840" cy="1659240"/>
              <a:chOff x="1688760" y="4819680"/>
              <a:chExt cx="1545840" cy="1659240"/>
            </a:xfrm>
          </p:grpSpPr>
          <p:sp>
            <p:nvSpPr>
              <p:cNvPr id="1634" name="Text Box 16"/>
              <p:cNvSpPr/>
              <p:nvPr/>
            </p:nvSpPr>
            <p:spPr>
              <a:xfrm>
                <a:off x="1966680" y="5041800"/>
                <a:ext cx="79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4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2.4×</a:t>
                </a: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35" name="组合 22560"/>
              <p:cNvGrpSpPr/>
              <p:nvPr/>
            </p:nvGrpSpPr>
            <p:grpSpPr>
              <a:xfrm>
                <a:off x="2711160" y="4819680"/>
                <a:ext cx="522360" cy="815400"/>
                <a:chOff x="2711160" y="4819680"/>
                <a:chExt cx="522360" cy="815400"/>
              </a:xfrm>
            </p:grpSpPr>
            <p:sp>
              <p:nvSpPr>
                <p:cNvPr id="1636" name="文本框 22561"/>
                <p:cNvSpPr/>
                <p:nvPr/>
              </p:nvSpPr>
              <p:spPr>
                <a:xfrm>
                  <a:off x="2728800" y="51753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37" name="文本框 22562"/>
                <p:cNvSpPr/>
                <p:nvPr/>
              </p:nvSpPr>
              <p:spPr>
                <a:xfrm>
                  <a:off x="2733480" y="48196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38" name="直接连接符 22563"/>
                <p:cNvSpPr/>
                <p:nvPr/>
              </p:nvSpPr>
              <p:spPr>
                <a:xfrm>
                  <a:off x="2711160" y="52387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39" name="文本框 22564"/>
              <p:cNvSpPr/>
              <p:nvPr/>
            </p:nvSpPr>
            <p:spPr>
              <a:xfrm>
                <a:off x="1688760" y="5686560"/>
                <a:ext cx="12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</a:t>
                </a: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.4×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40" name="组合 22565"/>
              <p:cNvGrpSpPr/>
              <p:nvPr/>
            </p:nvGrpSpPr>
            <p:grpSpPr>
              <a:xfrm>
                <a:off x="2712960" y="5456160"/>
                <a:ext cx="521640" cy="815400"/>
                <a:chOff x="2712960" y="5456160"/>
                <a:chExt cx="521640" cy="815400"/>
              </a:xfrm>
            </p:grpSpPr>
            <p:sp>
              <p:nvSpPr>
                <p:cNvPr id="1641" name="文本框 22566"/>
                <p:cNvSpPr/>
                <p:nvPr/>
              </p:nvSpPr>
              <p:spPr>
                <a:xfrm>
                  <a:off x="2730240" y="5811840"/>
                  <a:ext cx="504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4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2" name="文本框 22567"/>
                <p:cNvSpPr/>
                <p:nvPr/>
              </p:nvSpPr>
              <p:spPr>
                <a:xfrm>
                  <a:off x="2734920" y="5456160"/>
                  <a:ext cx="360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3" name="直接连接符 22568"/>
                <p:cNvSpPr/>
                <p:nvPr/>
              </p:nvSpPr>
              <p:spPr>
                <a:xfrm>
                  <a:off x="2712960" y="58752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44" name="直接连接符 22569"/>
              <p:cNvSpPr/>
              <p:nvPr/>
            </p:nvSpPr>
            <p:spPr>
              <a:xfrm>
                <a:off x="2030040" y="5773680"/>
                <a:ext cx="432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5" name="文本框 22570"/>
              <p:cNvSpPr/>
              <p:nvPr/>
            </p:nvSpPr>
            <p:spPr>
              <a:xfrm>
                <a:off x="1942920" y="542304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0.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6" name="文本框 22571"/>
              <p:cNvSpPr/>
              <p:nvPr/>
            </p:nvSpPr>
            <p:spPr>
              <a:xfrm>
                <a:off x="2725560" y="6080040"/>
                <a:ext cx="4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7" name="直接连接符 22572"/>
              <p:cNvSpPr/>
              <p:nvPr/>
            </p:nvSpPr>
            <p:spPr>
              <a:xfrm>
                <a:off x="2734920" y="5996160"/>
                <a:ext cx="28764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48" name="矩形 22573"/>
            <p:cNvSpPr/>
            <p:nvPr/>
          </p:nvSpPr>
          <p:spPr>
            <a:xfrm>
              <a:off x="1727640" y="6307200"/>
              <a:ext cx="158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d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49" name="矩形 22574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引入情境，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解决问题，提炼方法</a:t>
            </a:r>
            <a:endParaRPr b="0" i="1" lang="en-US" sz="3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2" name="Text Box 4"/>
          <p:cNvSpPr/>
          <p:nvPr/>
        </p:nvSpPr>
        <p:spPr>
          <a:xfrm>
            <a:off x="774720" y="2095560"/>
            <a:ext cx="6983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观察上面两道题的计算方法与整数乘法有着怎样的联系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怎样计算小数乘分数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3" name="Text Box 5"/>
          <p:cNvSpPr/>
          <p:nvPr/>
        </p:nvSpPr>
        <p:spPr>
          <a:xfrm>
            <a:off x="712800" y="357516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小数乘分数与整数乘分数的计算方法相同，能约分的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先约分，使计算更简便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4" name="矩形 23557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三、巩固练习 提高认识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Text Box 6"/>
          <p:cNvSpPr/>
          <p:nvPr/>
        </p:nvSpPr>
        <p:spPr>
          <a:xfrm>
            <a:off x="1144440" y="165564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做一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7" name="组合 24579"/>
          <p:cNvGrpSpPr/>
          <p:nvPr/>
        </p:nvGrpSpPr>
        <p:grpSpPr>
          <a:xfrm>
            <a:off x="1359000" y="2349360"/>
            <a:ext cx="1352160" cy="815400"/>
            <a:chOff x="1359000" y="2349360"/>
            <a:chExt cx="1352160" cy="815400"/>
          </a:xfrm>
        </p:grpSpPr>
        <p:sp>
          <p:nvSpPr>
            <p:cNvPr id="1658" name="Text Box 8"/>
            <p:cNvSpPr/>
            <p:nvPr/>
          </p:nvSpPr>
          <p:spPr>
            <a:xfrm>
              <a:off x="1359000" y="2585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2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59" name="组合 24581"/>
            <p:cNvGrpSpPr/>
            <p:nvPr/>
          </p:nvGrpSpPr>
          <p:grpSpPr>
            <a:xfrm>
              <a:off x="2178000" y="2349360"/>
              <a:ext cx="533160" cy="815400"/>
              <a:chOff x="2178000" y="2349360"/>
              <a:chExt cx="533160" cy="815400"/>
            </a:xfrm>
          </p:grpSpPr>
          <p:sp>
            <p:nvSpPr>
              <p:cNvPr id="1660" name="文本框 24582"/>
              <p:cNvSpPr/>
              <p:nvPr/>
            </p:nvSpPr>
            <p:spPr>
              <a:xfrm>
                <a:off x="2206440" y="27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1" name="文本框 24583"/>
              <p:cNvSpPr/>
              <p:nvPr/>
            </p:nvSpPr>
            <p:spPr>
              <a:xfrm>
                <a:off x="219060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2" name="直接连接符 24584"/>
              <p:cNvSpPr/>
              <p:nvPr/>
            </p:nvSpPr>
            <p:spPr>
              <a:xfrm>
                <a:off x="217800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63" name="组合 24585"/>
          <p:cNvGrpSpPr/>
          <p:nvPr/>
        </p:nvGrpSpPr>
        <p:grpSpPr>
          <a:xfrm>
            <a:off x="3848040" y="2349360"/>
            <a:ext cx="1352160" cy="815400"/>
            <a:chOff x="3848040" y="2349360"/>
            <a:chExt cx="1352160" cy="815400"/>
          </a:xfrm>
        </p:grpSpPr>
        <p:sp>
          <p:nvSpPr>
            <p:cNvPr id="1664" name="Text Box 8"/>
            <p:cNvSpPr/>
            <p:nvPr/>
          </p:nvSpPr>
          <p:spPr>
            <a:xfrm>
              <a:off x="3848040" y="25858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5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5" name="组合 24587"/>
            <p:cNvGrpSpPr/>
            <p:nvPr/>
          </p:nvGrpSpPr>
          <p:grpSpPr>
            <a:xfrm>
              <a:off x="4667040" y="2349360"/>
              <a:ext cx="533160" cy="815400"/>
              <a:chOff x="4667040" y="2349360"/>
              <a:chExt cx="533160" cy="815400"/>
            </a:xfrm>
          </p:grpSpPr>
          <p:sp>
            <p:nvSpPr>
              <p:cNvPr id="1666" name="文本框 24588"/>
              <p:cNvSpPr/>
              <p:nvPr/>
            </p:nvSpPr>
            <p:spPr>
              <a:xfrm>
                <a:off x="4695480" y="2705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7" name="文本框 24589"/>
              <p:cNvSpPr/>
              <p:nvPr/>
            </p:nvSpPr>
            <p:spPr>
              <a:xfrm>
                <a:off x="4679640" y="234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直接连接符 24590"/>
              <p:cNvSpPr/>
              <p:nvPr/>
            </p:nvSpPr>
            <p:spPr>
              <a:xfrm>
                <a:off x="466704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69" name="组合 24591"/>
          <p:cNvGrpSpPr/>
          <p:nvPr/>
        </p:nvGrpSpPr>
        <p:grpSpPr>
          <a:xfrm>
            <a:off x="6248520" y="2311560"/>
            <a:ext cx="1352160" cy="815040"/>
            <a:chOff x="6248520" y="2311560"/>
            <a:chExt cx="1352160" cy="815040"/>
          </a:xfrm>
        </p:grpSpPr>
        <p:sp>
          <p:nvSpPr>
            <p:cNvPr id="1670" name="Text Box 8"/>
            <p:cNvSpPr/>
            <p:nvPr/>
          </p:nvSpPr>
          <p:spPr>
            <a:xfrm>
              <a:off x="6248520" y="254772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4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1" name="组合 24593"/>
            <p:cNvGrpSpPr/>
            <p:nvPr/>
          </p:nvGrpSpPr>
          <p:grpSpPr>
            <a:xfrm>
              <a:off x="7067520" y="2311560"/>
              <a:ext cx="533160" cy="815040"/>
              <a:chOff x="7067520" y="2311560"/>
              <a:chExt cx="533160" cy="815040"/>
            </a:xfrm>
          </p:grpSpPr>
          <p:sp>
            <p:nvSpPr>
              <p:cNvPr id="1672" name="文本框 24594"/>
              <p:cNvSpPr/>
              <p:nvPr/>
            </p:nvSpPr>
            <p:spPr>
              <a:xfrm>
                <a:off x="7095960" y="2666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文本框 24595"/>
              <p:cNvSpPr/>
              <p:nvPr/>
            </p:nvSpPr>
            <p:spPr>
              <a:xfrm>
                <a:off x="7080120" y="2311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直接连接符 24596"/>
              <p:cNvSpPr/>
              <p:nvPr/>
            </p:nvSpPr>
            <p:spPr>
              <a:xfrm>
                <a:off x="7067520" y="2730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75" name="组合 24597"/>
          <p:cNvGrpSpPr/>
          <p:nvPr/>
        </p:nvGrpSpPr>
        <p:grpSpPr>
          <a:xfrm>
            <a:off x="1436760" y="3716280"/>
            <a:ext cx="1352160" cy="815400"/>
            <a:chOff x="1436760" y="3716280"/>
            <a:chExt cx="1352160" cy="815400"/>
          </a:xfrm>
        </p:grpSpPr>
        <p:sp>
          <p:nvSpPr>
            <p:cNvPr id="1676" name="Text Box 8"/>
            <p:cNvSpPr/>
            <p:nvPr/>
          </p:nvSpPr>
          <p:spPr>
            <a:xfrm>
              <a:off x="1436760" y="3952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.4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7" name="组合 24599"/>
            <p:cNvGrpSpPr/>
            <p:nvPr/>
          </p:nvGrpSpPr>
          <p:grpSpPr>
            <a:xfrm>
              <a:off x="2255760" y="3716280"/>
              <a:ext cx="533160" cy="815400"/>
              <a:chOff x="2255760" y="3716280"/>
              <a:chExt cx="533160" cy="815400"/>
            </a:xfrm>
          </p:grpSpPr>
          <p:sp>
            <p:nvSpPr>
              <p:cNvPr id="1678" name="文本框 24600"/>
              <p:cNvSpPr/>
              <p:nvPr/>
            </p:nvSpPr>
            <p:spPr>
              <a:xfrm>
                <a:off x="2284200" y="407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文本框 24601"/>
              <p:cNvSpPr/>
              <p:nvPr/>
            </p:nvSpPr>
            <p:spPr>
              <a:xfrm>
                <a:off x="226836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直接连接符 24602"/>
              <p:cNvSpPr/>
              <p:nvPr/>
            </p:nvSpPr>
            <p:spPr>
              <a:xfrm>
                <a:off x="22557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81" name="组合 24603"/>
          <p:cNvGrpSpPr/>
          <p:nvPr/>
        </p:nvGrpSpPr>
        <p:grpSpPr>
          <a:xfrm>
            <a:off x="3882960" y="3716280"/>
            <a:ext cx="1352160" cy="815400"/>
            <a:chOff x="3882960" y="3716280"/>
            <a:chExt cx="1352160" cy="815400"/>
          </a:xfrm>
        </p:grpSpPr>
        <p:sp>
          <p:nvSpPr>
            <p:cNvPr id="1682" name="Text Box 8"/>
            <p:cNvSpPr/>
            <p:nvPr/>
          </p:nvSpPr>
          <p:spPr>
            <a:xfrm>
              <a:off x="3882960" y="39528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0.8 </a:t>
              </a: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3" name="组合 24605"/>
            <p:cNvGrpSpPr/>
            <p:nvPr/>
          </p:nvGrpSpPr>
          <p:grpSpPr>
            <a:xfrm>
              <a:off x="4701960" y="3716280"/>
              <a:ext cx="533160" cy="815400"/>
              <a:chOff x="4701960" y="3716280"/>
              <a:chExt cx="533160" cy="815400"/>
            </a:xfrm>
          </p:grpSpPr>
          <p:sp>
            <p:nvSpPr>
              <p:cNvPr id="1684" name="文本框 24606"/>
              <p:cNvSpPr/>
              <p:nvPr/>
            </p:nvSpPr>
            <p:spPr>
              <a:xfrm>
                <a:off x="4730400" y="4071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5" name="文本框 24607"/>
              <p:cNvSpPr/>
              <p:nvPr/>
            </p:nvSpPr>
            <p:spPr>
              <a:xfrm>
                <a:off x="4714560" y="3716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6" name="直接连接符 24608"/>
              <p:cNvSpPr/>
              <p:nvPr/>
            </p:nvSpPr>
            <p:spPr>
              <a:xfrm>
                <a:off x="47019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87" name="组合 24609"/>
          <p:cNvGrpSpPr/>
          <p:nvPr/>
        </p:nvGrpSpPr>
        <p:grpSpPr>
          <a:xfrm>
            <a:off x="6365880" y="3695760"/>
            <a:ext cx="1365120" cy="815040"/>
            <a:chOff x="6365880" y="3695760"/>
            <a:chExt cx="1365120" cy="815040"/>
          </a:xfrm>
        </p:grpSpPr>
        <p:sp>
          <p:nvSpPr>
            <p:cNvPr id="1688" name="Text Box 8"/>
            <p:cNvSpPr/>
            <p:nvPr/>
          </p:nvSpPr>
          <p:spPr>
            <a:xfrm>
              <a:off x="6723000" y="39114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× 3.2 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9" name="组合 24611"/>
            <p:cNvGrpSpPr/>
            <p:nvPr/>
          </p:nvGrpSpPr>
          <p:grpSpPr>
            <a:xfrm>
              <a:off x="6365880" y="3695760"/>
              <a:ext cx="533160" cy="815040"/>
              <a:chOff x="6365880" y="3695760"/>
              <a:chExt cx="533160" cy="815040"/>
            </a:xfrm>
          </p:grpSpPr>
          <p:sp>
            <p:nvSpPr>
              <p:cNvPr id="1690" name="文本框 24612"/>
              <p:cNvSpPr/>
              <p:nvPr/>
            </p:nvSpPr>
            <p:spPr>
              <a:xfrm>
                <a:off x="6394320" y="4051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1" name="文本框 24613"/>
              <p:cNvSpPr/>
              <p:nvPr/>
            </p:nvSpPr>
            <p:spPr>
              <a:xfrm>
                <a:off x="6378480" y="3695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直接连接符 24614"/>
              <p:cNvSpPr/>
              <p:nvPr/>
            </p:nvSpPr>
            <p:spPr>
              <a:xfrm>
                <a:off x="6365880" y="4114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3" name="文本框 24615"/>
          <p:cNvSpPr/>
          <p:nvPr/>
        </p:nvSpPr>
        <p:spPr>
          <a:xfrm>
            <a:off x="2544840" y="3933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94" name="组合 24616"/>
          <p:cNvGrpSpPr/>
          <p:nvPr/>
        </p:nvGrpSpPr>
        <p:grpSpPr>
          <a:xfrm>
            <a:off x="2511360" y="2338560"/>
            <a:ext cx="1093680" cy="805680"/>
            <a:chOff x="2511360" y="2338560"/>
            <a:chExt cx="1093680" cy="805680"/>
          </a:xfrm>
        </p:grpSpPr>
        <p:sp>
          <p:nvSpPr>
            <p:cNvPr id="1695" name="文本框 24617"/>
            <p:cNvSpPr/>
            <p:nvPr/>
          </p:nvSpPr>
          <p:spPr>
            <a:xfrm>
              <a:off x="2511360" y="25448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6" name="文本框 24618"/>
            <p:cNvSpPr/>
            <p:nvPr/>
          </p:nvSpPr>
          <p:spPr>
            <a:xfrm>
              <a:off x="2932200" y="268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7" name="文本框 24619"/>
            <p:cNvSpPr/>
            <p:nvPr/>
          </p:nvSpPr>
          <p:spPr>
            <a:xfrm>
              <a:off x="2925720" y="23385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98" name="直接连接符 24620"/>
            <p:cNvSpPr/>
            <p:nvPr/>
          </p:nvSpPr>
          <p:spPr>
            <a:xfrm>
              <a:off x="2944800" y="27608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99" name="组合 24621"/>
          <p:cNvGrpSpPr/>
          <p:nvPr/>
        </p:nvGrpSpPr>
        <p:grpSpPr>
          <a:xfrm>
            <a:off x="4962600" y="2349360"/>
            <a:ext cx="1093680" cy="805680"/>
            <a:chOff x="4962600" y="2349360"/>
            <a:chExt cx="1093680" cy="805680"/>
          </a:xfrm>
        </p:grpSpPr>
        <p:sp>
          <p:nvSpPr>
            <p:cNvPr id="1700" name="文本框 24622"/>
            <p:cNvSpPr/>
            <p:nvPr/>
          </p:nvSpPr>
          <p:spPr>
            <a:xfrm>
              <a:off x="4962600" y="25556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1" name="文本框 24623"/>
            <p:cNvSpPr/>
            <p:nvPr/>
          </p:nvSpPr>
          <p:spPr>
            <a:xfrm>
              <a:off x="5383440" y="2695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2" name="文本框 24624"/>
            <p:cNvSpPr/>
            <p:nvPr/>
          </p:nvSpPr>
          <p:spPr>
            <a:xfrm>
              <a:off x="5376960" y="23493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3" name="直接连接符 24625"/>
            <p:cNvSpPr/>
            <p:nvPr/>
          </p:nvSpPr>
          <p:spPr>
            <a:xfrm>
              <a:off x="5396040" y="27716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4" name="组合 24626"/>
          <p:cNvGrpSpPr/>
          <p:nvPr/>
        </p:nvGrpSpPr>
        <p:grpSpPr>
          <a:xfrm>
            <a:off x="7346880" y="2305080"/>
            <a:ext cx="1093680" cy="805680"/>
            <a:chOff x="7346880" y="2305080"/>
            <a:chExt cx="1093680" cy="805680"/>
          </a:xfrm>
        </p:grpSpPr>
        <p:sp>
          <p:nvSpPr>
            <p:cNvPr id="1705" name="文本框 24627"/>
            <p:cNvSpPr/>
            <p:nvPr/>
          </p:nvSpPr>
          <p:spPr>
            <a:xfrm>
              <a:off x="7346880" y="2511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6" name="文本框 24628"/>
            <p:cNvSpPr/>
            <p:nvPr/>
          </p:nvSpPr>
          <p:spPr>
            <a:xfrm>
              <a:off x="7767720" y="2651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7" name="文本框 24629"/>
            <p:cNvSpPr/>
            <p:nvPr/>
          </p:nvSpPr>
          <p:spPr>
            <a:xfrm>
              <a:off x="7761240" y="230508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08" name="直接连接符 24630"/>
            <p:cNvSpPr/>
            <p:nvPr/>
          </p:nvSpPr>
          <p:spPr>
            <a:xfrm>
              <a:off x="7780320" y="2727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09" name="组合 24631"/>
          <p:cNvGrpSpPr/>
          <p:nvPr/>
        </p:nvGrpSpPr>
        <p:grpSpPr>
          <a:xfrm>
            <a:off x="4981680" y="3705120"/>
            <a:ext cx="1093680" cy="805680"/>
            <a:chOff x="4981680" y="3705120"/>
            <a:chExt cx="1093680" cy="805680"/>
          </a:xfrm>
        </p:grpSpPr>
        <p:sp>
          <p:nvSpPr>
            <p:cNvPr id="1710" name="文本框 24632"/>
            <p:cNvSpPr/>
            <p:nvPr/>
          </p:nvSpPr>
          <p:spPr>
            <a:xfrm>
              <a:off x="4981680" y="391140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1" name="文本框 24633"/>
            <p:cNvSpPr/>
            <p:nvPr/>
          </p:nvSpPr>
          <p:spPr>
            <a:xfrm>
              <a:off x="5402520" y="4051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2" name="文本框 24634"/>
            <p:cNvSpPr/>
            <p:nvPr/>
          </p:nvSpPr>
          <p:spPr>
            <a:xfrm>
              <a:off x="5396040" y="370512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3" name="直接连接符 24635"/>
            <p:cNvSpPr/>
            <p:nvPr/>
          </p:nvSpPr>
          <p:spPr>
            <a:xfrm>
              <a:off x="5415120" y="41274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14" name="组合 24636"/>
          <p:cNvGrpSpPr/>
          <p:nvPr/>
        </p:nvGrpSpPr>
        <p:grpSpPr>
          <a:xfrm>
            <a:off x="7402680" y="3700440"/>
            <a:ext cx="1093680" cy="805680"/>
            <a:chOff x="7402680" y="3700440"/>
            <a:chExt cx="1093680" cy="805680"/>
          </a:xfrm>
        </p:grpSpPr>
        <p:sp>
          <p:nvSpPr>
            <p:cNvPr id="1715" name="文本框 24637"/>
            <p:cNvSpPr/>
            <p:nvPr/>
          </p:nvSpPr>
          <p:spPr>
            <a:xfrm>
              <a:off x="7402680" y="3906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6" name="文本框 24638"/>
            <p:cNvSpPr/>
            <p:nvPr/>
          </p:nvSpPr>
          <p:spPr>
            <a:xfrm>
              <a:off x="7823520" y="4046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7" name="文本框 24639"/>
            <p:cNvSpPr/>
            <p:nvPr/>
          </p:nvSpPr>
          <p:spPr>
            <a:xfrm>
              <a:off x="7817040" y="370044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18" name="直接连接符 24640"/>
            <p:cNvSpPr/>
            <p:nvPr/>
          </p:nvSpPr>
          <p:spPr>
            <a:xfrm>
              <a:off x="7836120" y="4122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19" name="矩形 24641"/>
          <p:cNvSpPr/>
          <p:nvPr/>
        </p:nvSpPr>
        <p:spPr>
          <a:xfrm>
            <a:off x="630000" y="611172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1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2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23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724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725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726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727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728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3:49Z</dcterms:modified>
  <cp:revision>3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